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000-A20A-41BC-8E66-5DB7D675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A07-DB37-4C49-BE4D-2C41A59F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C69-C21F-4C07-8304-9B69DF67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E86-41B5-471C-96B3-FC077EE0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D93-B0F3-440D-8281-835CDF82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B34-C390-41F3-8708-5560B0D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76B-6448-43D9-BE41-744E7A35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0D3-16BC-466B-AFEE-E8F0317F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34F-39F4-4ECD-A743-FE2CD49A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A60-20AA-4FAD-848A-3BF5727B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C2F-A9AE-425D-AB09-2BC30B54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3E7-E88E-4B61-A4D8-79372EEA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6147-0D3C-47A2-9D55-AE0C0A8E9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2:31:29Z</dcterms:created>
  <dc:creator>Patrick J. Mooney</dc:creator>
  <dc:description/>
  <dc:language>en-US</dc:language>
  <cp:lastModifiedBy>Patrick J. Mooney</cp:lastModifiedBy>
  <dcterms:modified xsi:type="dcterms:W3CDTF">2011-12-01T02:32:31Z</dcterms:modified>
  <cp:revision>1</cp:revision>
  <dc:subject/>
  <dc:title>Slide 1</dc:title>
</cp:coreProperties>
</file>